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69A0-641F-4043-B26D-B3D4BB58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E788-B9D9-4159-A6A8-8C3AF09E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F49E-D847-4862-8BB0-CA3D3AE6A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18D2-B0B4-4954-A9BC-EB7970D84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2ECE-767F-4CA0-B423-0784903B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C462-BEDB-4627-8AA7-C28E2CCD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1C1D-38BE-4080-81FC-8AF1866A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9088-87D2-49E8-AFA1-E43D609E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A6CF-6998-4BA5-B33B-DB689B86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5A92-2778-4AE5-89CF-2DF312EE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7C70-0479-4CDA-8D70-00B4FD92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F571-EFB4-4365-8924-B7405E64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E118-010C-4C20-9783-4FC2398B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8C63-2680-4506-937C-7DE206F3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0023-14C1-4736-8589-5DB9A1E8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6A1F-A7B5-468C-BF50-529ABB378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BE18-AA95-4B87-A065-9ABD10577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83C7-7E9D-473A-B18A-1EAEE304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F827-D44E-472B-A157-9A9DB748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7071-11BD-4E2C-8B4E-307CC0F8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F229-232D-4CF3-888C-34A7EFC6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CFA0-DBAD-4F7C-8164-4F0F30A1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E63F-4391-4C94-A6BD-8F9B2F35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3D5E-5E5B-4A37-97A9-70417899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FD43-28AA-482F-850A-51FF7E5F12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211B-0C34-471A-95DD-C4B97F798D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1" lang="en-US" sz="8800" spc="-1" strike="noStrike">
                <a:solidFill>
                  <a:srgbClr val="fffc00"/>
                </a:solidFill>
                <a:latin typeface="Arial Black"/>
              </a:rPr>
              <a:t>RELIGIONS IN BRITAIN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724280"/>
            <a:ext cx="67816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cture 5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Other conventional Christian churche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holic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e churches – non-conformists (Puritans, Calvinists, those who didn’t accept the authority of the Anglican church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Baptists – strict interpretation of the B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Quakers (the Society of Friends) – lack of clergy and pacif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ngelical churches and sects. Pentecostal church – emphasis on the spiritual and miracul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on-Christian relig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lam (Muslims are the most numerous immigrants): More than 1000 mosques in Brit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aism. The second largest Jewish community  in Europe is in Brit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Age relig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Theoso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Budd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Druid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hristian Scient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Democracy, multiculturalism and traditionalism of British society have determined the situation with religion in the country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2205000"/>
            <a:ext cx="914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a great variety of religions, confessions and s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gion is separated from poli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narch cannot be a Cathol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 senior bishops in the Church of England are all members of the House of L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overnment has the right to veto the choice of bish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religious instruction in sch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stablished Church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where in Europe but in Brit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tional churc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ficial religions of the country by la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hurch of England (Anglican Churc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resbyterian Church of Scotl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c00"/>
                </a:solidFill>
                <a:latin typeface="Arial Black"/>
              </a:rPr>
              <a:t>The Church of England (The Anglican Church)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ished in 15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ead of the Church is an English Monarch. The monarch appoints archbishops and bish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scopalian Chu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ligious leaders: Archbishop of Canterbury (the seat is Lambeth Palace in London) and Archbishop of Y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4 senior bish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 remaining bish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structure of the Anglican Church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ch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bishop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is in charge of a district called </a:t>
            </a:r>
            <a:r>
              <a:rPr b="1" i="1" lang="en-US" sz="4400" spc="-1" strike="noStrike">
                <a:solidFill>
                  <a:srgbClr val="fffc00"/>
                </a:solidFill>
                <a:latin typeface="Arial"/>
              </a:rPr>
              <a:t>dioce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ch diocese has a cathedr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ch diocese is divided into </a:t>
            </a:r>
            <a:r>
              <a:rPr b="1" i="1" lang="en-US" sz="4400" spc="-1" strike="noStrike">
                <a:solidFill>
                  <a:srgbClr val="fffc00"/>
                </a:solidFill>
                <a:latin typeface="Arial"/>
              </a:rPr>
              <a:t>paris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ch parish is in the care of a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vic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wo branches of the Church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c00"/>
                </a:solidFill>
                <a:latin typeface="Arial"/>
              </a:rPr>
              <a:t>High Church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milar to Catholic in terms of the ritual, the decoration of the church, the robes of priests, the ceremonies and proces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c00"/>
                </a:solidFill>
                <a:latin typeface="Arial"/>
              </a:rPr>
              <a:t>Low Churc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often called evangelical. Strictly and consciously opposed to Catholicism. The content of the Bible is only important, the rest is of no valu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omen in the Church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riests in the Church of England are allowed to be marri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 1987 women were ordained (allowed to become priests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resbyterian Church of Scotland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ly separate from the Anglican Chu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its own organisation and appoints its own ministers. It h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 bish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 severe form of Protestantism founded in the 1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the teaching of the great French reformer Calv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ished by John Knox, a Roman Catholic priest, converted to Protestantis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Wale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s no established churc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Anglican Church was disestablished in 191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re is a church of Welsh origin called both “Calvinistic Methodist” and “Presbyterian Church of Wales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11:42:44Z</dcterms:created>
  <dc:creator>ALLA</dc:creator>
  <dc:description/>
  <dc:language>en-US</dc:language>
  <cp:lastModifiedBy>ALLA</cp:lastModifiedBy>
  <dcterms:modified xsi:type="dcterms:W3CDTF">2008-04-14T05:26:45Z</dcterms:modified>
  <cp:revision>13</cp:revision>
  <dc:subject/>
  <dc:title> RELIGIONS IN BRITAIN</dc:title>
</cp:coreProperties>
</file>